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0BF-1F1E-4B18-BF7E-DE380E57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ECC-52DB-429D-890E-5CFB9489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4A8-2FD8-4E1B-9D12-08F3E799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BC5-2848-4EBC-BEC9-282504C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570-B5A4-48D4-8D1C-013BD4B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A96-E7CE-4879-BE1D-AD7D6D58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BBD-ECEC-4DA5-A236-3C16179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533-8C09-4B47-8935-B03E3D3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D6C-1B1A-4AB5-A1DC-E479BEF3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7E3-9F21-479D-A1D3-C394E65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0D7-EB87-4BB4-A4B1-9BB6E85B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BAE-6865-4D09-AF4E-F48DD03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5BB-B6E4-4C54-BA1D-6C26F9766B4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Töltött kenyértekercs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ozzávalók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 adag kenyértész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0 szelet pármai so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 darab keménytoj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00 g reszelt sa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 marék friss bazsal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aradic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ajbogy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ívaolaj, bors, s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ecep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nyújtott tészta közepe mentén helyezze el az összes alapanyag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tezze be olívaolajjal, ízesítse sóval és borss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jtsa rá a töltelékre a tésztá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56320" y="1484280"/>
            <a:ext cx="39495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ütés 35 perci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270160"/>
            <a:ext cx="6118200" cy="458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08160" y="1341360"/>
            <a:ext cx="613584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8:45:10Z</dcterms:created>
  <dc:creator>OKÉV</dc:creator>
  <dc:description/>
  <dc:language>en-US</dc:language>
  <cp:lastModifiedBy>OKÉV</cp:lastModifiedBy>
  <dcterms:modified xsi:type="dcterms:W3CDTF">2005-12-26T03:44:55Z</dcterms:modified>
  <cp:revision>6</cp:revision>
  <dc:subject/>
  <dc:title>1. dia</dc:title>
</cp:coreProperties>
</file>